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4FB8-6D9F-4A7A-9C13-4CA3AF0FF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0C04-B582-410C-980C-85587AD64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F1D9-845C-48FD-B2F8-99D439FB4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C444-EB21-4D6C-9369-9818A1D58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BF84-0B06-4C1E-9127-8090964A7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D2A0-D158-48CC-8A71-07D355FD9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627A-75B1-4FE1-9829-6C63FDC6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C1C4-78C1-4246-A343-76C90B8CB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69A3-FA27-4B14-8810-5E2299786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92C7-ABC4-4CD5-BF3F-5356BBFC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B488-C068-42CA-915A-2D24F53B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C869-4A71-4B28-B905-4D5A7F6D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B24E7-D9F3-46CA-91C1-7FF709829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27280" y="1916280"/>
            <a:ext cx="1511280" cy="100800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ck trace needed 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" name=""/>
          <p:cNvCxnSpPr>
            <a:stCxn id="43" idx="2"/>
            <a:endCxn id="44" idx="0"/>
          </p:cNvCxnSpPr>
          <p:nvPr/>
        </p:nvCxnSpPr>
        <p:spPr>
          <a:xfrm flipH="1" rot="16200000">
            <a:off x="3241080" y="909360"/>
            <a:ext cx="286200" cy="1080"/>
          </a:xfrm>
          <a:prstGeom prst="bentConnector3">
            <a:avLst>
              <a:gd name="adj1" fmla="val 4924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3"/>
            <a:endCxn id="46" idx="0"/>
          </p:cNvCxnSpPr>
          <p:nvPr/>
        </p:nvCxnSpPr>
        <p:spPr>
          <a:xfrm>
            <a:off x="4138560" y="2420280"/>
            <a:ext cx="721080" cy="288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4211640" y="2708280"/>
            <a:ext cx="1295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Create log ev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with a stack tr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1" idx="1"/>
            <a:endCxn id="48" idx="0"/>
          </p:cNvCxnSpPr>
          <p:nvPr/>
        </p:nvCxnSpPr>
        <p:spPr>
          <a:xfrm flipV="1" rot="10800000">
            <a:off x="1978560" y="2420280"/>
            <a:ext cx="648720" cy="288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2268360" y="1052640"/>
            <a:ext cx="223236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Calculate log targ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and filters bas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on logger name and log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"/>
          <p:cNvCxnSpPr>
            <a:stCxn id="44" idx="2"/>
            <a:endCxn id="41" idx="0"/>
          </p:cNvCxnSpPr>
          <p:nvPr/>
        </p:nvCxnSpPr>
        <p:spPr>
          <a:xfrm rot="5400000">
            <a:off x="3239640" y="1771560"/>
            <a:ext cx="288000" cy="1800"/>
          </a:xfrm>
          <a:prstGeom prst="bentConnector3">
            <a:avLst>
              <a:gd name="adj1" fmla="val 49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4859280" y="1341360"/>
            <a:ext cx="2303640" cy="7192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Because of the special data structur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used, the amortized cost of this is zer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4" idx="3"/>
            <a:endCxn id="50" idx="1"/>
          </p:cNvCxnSpPr>
          <p:nvPr/>
        </p:nvCxnSpPr>
        <p:spPr>
          <a:xfrm>
            <a:off x="4500720" y="1340640"/>
            <a:ext cx="358920" cy="360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48" name=""/>
          <p:cNvSpPr/>
          <p:nvPr/>
        </p:nvSpPr>
        <p:spPr>
          <a:xfrm>
            <a:off x="1258920" y="2708280"/>
            <a:ext cx="14400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Create log ev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without a stack tr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96000" y="2565360"/>
            <a:ext cx="2016000" cy="7192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his is rather lengthy ope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and should be avoid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 prerformance reas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6" idx="3"/>
            <a:endCxn id="52" idx="1"/>
          </p:cNvCxnSpPr>
          <p:nvPr/>
        </p:nvCxnSpPr>
        <p:spPr>
          <a:xfrm flipV="1">
            <a:off x="5506920" y="2925000"/>
            <a:ext cx="289440" cy="352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54" name=""/>
          <p:cNvCxnSpPr>
            <a:stCxn id="48" idx="2"/>
            <a:endCxn id="55" idx="0"/>
          </p:cNvCxnSpPr>
          <p:nvPr/>
        </p:nvCxnSpPr>
        <p:spPr>
          <a:xfrm flipH="1" rot="16200000">
            <a:off x="2356200" y="2834280"/>
            <a:ext cx="649440" cy="1403640"/>
          </a:xfrm>
          <a:prstGeom prst="bentConnector3">
            <a:avLst>
              <a:gd name="adj1" fmla="val 500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6" idx="2"/>
            <a:endCxn id="55" idx="0"/>
          </p:cNvCxnSpPr>
          <p:nvPr/>
        </p:nvCxnSpPr>
        <p:spPr>
          <a:xfrm rot="5400000">
            <a:off x="3795840" y="2797560"/>
            <a:ext cx="649440" cy="1477440"/>
          </a:xfrm>
          <a:prstGeom prst="bentConnector3">
            <a:avLst>
              <a:gd name="adj1" fmla="val 500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2482920" y="3860640"/>
            <a:ext cx="179856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Proceed to the first targ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24360" y="4581360"/>
            <a:ext cx="1511280" cy="10083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s ev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allowed by filter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>
            <a:stCxn id="57" idx="3"/>
            <a:endCxn id="59" idx="1"/>
          </p:cNvCxnSpPr>
          <p:nvPr/>
        </p:nvCxnSpPr>
        <p:spPr>
          <a:xfrm>
            <a:off x="5435640" y="5085360"/>
            <a:ext cx="115272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9" idx="0"/>
            <a:endCxn id="61" idx="3"/>
          </p:cNvCxnSpPr>
          <p:nvPr/>
        </p:nvCxnSpPr>
        <p:spPr>
          <a:xfrm flipV="1" rot="16200000">
            <a:off x="6984360" y="4222080"/>
            <a:ext cx="396360" cy="322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61" idx="1"/>
            <a:endCxn id="57" idx="0"/>
          </p:cNvCxnSpPr>
          <p:nvPr/>
        </p:nvCxnSpPr>
        <p:spPr>
          <a:xfrm flipV="1" rot="10800000">
            <a:off x="4679640" y="4185360"/>
            <a:ext cx="468720" cy="396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5148360" y="3933720"/>
            <a:ext cx="1873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Advance to the next targ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"/>
          <p:cNvCxnSpPr>
            <a:stCxn id="55" idx="3"/>
            <a:endCxn id="57" idx="0"/>
          </p:cNvCxnSpPr>
          <p:nvPr/>
        </p:nvCxnSpPr>
        <p:spPr>
          <a:xfrm>
            <a:off x="4281480" y="4112280"/>
            <a:ext cx="398880" cy="469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4932360" y="5805360"/>
            <a:ext cx="2087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Send log event to the targ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"/>
          <p:cNvCxnSpPr>
            <a:stCxn id="57" idx="2"/>
            <a:endCxn id="64" idx="1"/>
          </p:cNvCxnSpPr>
          <p:nvPr/>
        </p:nvCxnSpPr>
        <p:spPr>
          <a:xfrm flipH="1" rot="16200000">
            <a:off x="4572360" y="5697000"/>
            <a:ext cx="467640" cy="252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64" idx="3"/>
            <a:endCxn id="59" idx="2"/>
          </p:cNvCxnSpPr>
          <p:nvPr/>
        </p:nvCxnSpPr>
        <p:spPr>
          <a:xfrm flipV="1">
            <a:off x="7020000" y="5589720"/>
            <a:ext cx="324000" cy="467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971640" y="4941720"/>
            <a:ext cx="2663640" cy="7192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his involves walk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he entire filter list and the c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depends on the filter complexit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"/>
          <p:cNvCxnSpPr>
            <a:stCxn id="67" idx="3"/>
            <a:endCxn id="57" idx="1"/>
          </p:cNvCxnSpPr>
          <p:nvPr/>
        </p:nvCxnSpPr>
        <p:spPr>
          <a:xfrm flipV="1">
            <a:off x="3635280" y="5085360"/>
            <a:ext cx="289440" cy="21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9" name=""/>
          <p:cNvSpPr/>
          <p:nvPr/>
        </p:nvSpPr>
        <p:spPr>
          <a:xfrm>
            <a:off x="4139640" y="2205000"/>
            <a:ext cx="37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44360" y="5529240"/>
            <a:ext cx="37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588000" y="4581360"/>
            <a:ext cx="1511280" cy="10083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ve more target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68720" y="4378320"/>
            <a:ext cx="37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958160" y="53006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59" idx="3"/>
            <a:endCxn id="74" idx="0"/>
          </p:cNvCxnSpPr>
          <p:nvPr/>
        </p:nvCxnSpPr>
        <p:spPr>
          <a:xfrm flipH="1">
            <a:off x="7885080" y="5085360"/>
            <a:ext cx="214560" cy="1080720"/>
          </a:xfrm>
          <a:prstGeom prst="bentConnector4">
            <a:avLst>
              <a:gd name="adj1" fmla="val -110084"/>
              <a:gd name="adj2" fmla="val 733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>
            <a:off x="7524720" y="6165720"/>
            <a:ext cx="720720" cy="73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37080" y="48816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340000" y="21733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27280" y="52056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Logging meth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9T06:19:47Z</dcterms:created>
  <dc:creator>Jarosław Kowalski</dc:creator>
  <dc:description/>
  <dc:language>en-US</dc:language>
  <cp:lastModifiedBy>Jarosław Kowalski</cp:lastModifiedBy>
  <dcterms:modified xsi:type="dcterms:W3CDTF">2005-05-29T06:55:57Z</dcterms:modified>
  <cp:revision>66</cp:revision>
  <dc:subject/>
  <dc:title>Slajd 1</dc:title>
</cp:coreProperties>
</file>